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6733-7981-4E3C-A057-9A0EAB8AF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2B3B-B3AA-4484-83F2-21FF1302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A272-A266-4BB3-9BE6-895C18F4F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8B02-57C2-432B-B41F-0BFDA7D5D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744B3-4F2E-4F23-B70E-A98082ECD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331A1-A289-4C3B-BA5C-7C30583E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0E14-03D2-45F6-9D45-B2A9E794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AEEE-F8CB-427D-B9E5-FB962252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94A9-FAF5-46BC-BACC-F8ECEDFD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795B-BA75-4D89-AF11-7257CDCF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C729-DA57-4361-9AAA-79CA43F2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ED9A-EDA9-45F9-9C08-EA4C9E10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3572-0F10-4465-8CB7-E6AA7169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A30DD-B3A1-4DB2-8B51-29B901EA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1B879-EEF8-49C9-A42E-611ACF06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FA32-8588-4602-990F-A64800C1E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575D-BBEC-4360-9724-65C5589AB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3D69-B4CA-45CD-8E9A-81581E6E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04F9-4D88-4B29-AF42-0E4D10B2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2401-37C1-440D-9B8C-0991CB95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F2B8-F81A-42D5-80E7-85D5E16E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C7A9-CA9A-4D57-8563-DC6B464E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459F-437B-486C-A742-B66B3B96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A61B-6ECC-4028-A542-00F85483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66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cc00c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cc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4168-2AF0-4111-8BB2-968C2A5BC871}" type="slidenum">
              <a:rPr b="0" lang="it-IT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66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cc00c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EF7B-2CB5-4B57-AEE9-E2DAC8267A13}" type="slidenum">
              <a:rPr b="0" lang="it-IT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99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cc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52120" y="466560"/>
            <a:ext cx="662940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66"/>
                </a:solidFill>
                <a:latin typeface="Lucida Sans Unicode"/>
                <a:ea typeface="Lucida Sans Unicode"/>
              </a:rPr>
              <a:t>Miur</a:t>
            </a:r>
            <a:br>
              <a:rPr sz="1400"/>
            </a:br>
            <a:r>
              <a:rPr b="1" i="1" lang="it-IT" sz="1200" spc="-1" strike="noStrike">
                <a:solidFill>
                  <a:srgbClr val="000066"/>
                </a:solidFill>
                <a:latin typeface="Lucida Sans Unicode"/>
                <a:ea typeface="Lucida Sans Unicode"/>
              </a:rPr>
              <a:t>U</a:t>
            </a:r>
            <a:r>
              <a:rPr b="1" i="1" lang="it-IT" sz="1200" spc="-1" strike="noStrike">
                <a:solidFill>
                  <a:srgbClr val="000066"/>
                </a:solidFill>
                <a:latin typeface="Bookman Old Style"/>
                <a:ea typeface="Times New Roman"/>
              </a:rPr>
              <a:t>ffico Scolastico Regionale - Direzione Generale - Friuli Venezia Giulia </a:t>
            </a:r>
            <a:br>
              <a:rPr sz="1200"/>
            </a:br>
            <a:br>
              <a:rPr sz="1200"/>
            </a:br>
            <a:r>
              <a:rPr b="1" i="1" lang="it-IT" sz="1800" spc="-1" strike="noStrike">
                <a:solidFill>
                  <a:srgbClr val="333399"/>
                </a:solidFill>
                <a:latin typeface="Arial"/>
                <a:ea typeface="Arial"/>
              </a:rPr>
              <a:t>Progetto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1080" y="3123720"/>
            <a:ext cx="7667640" cy="40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3276720"/>
            <a:ext cx="59436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99"/>
                </a:solidFill>
                <a:latin typeface="Georgia"/>
                <a:ea typeface="Times New Roman"/>
              </a:rPr>
              <a:t>Seminario</a:t>
            </a:r>
            <a:br>
              <a:rPr sz="2400"/>
            </a:br>
            <a:r>
              <a:rPr b="1" i="1" lang="it-IT" sz="2400" spc="-1" strike="noStrike">
                <a:solidFill>
                  <a:srgbClr val="000099"/>
                </a:solidFill>
                <a:latin typeface="Georgia"/>
                <a:ea typeface="Times New Roman"/>
              </a:rPr>
              <a:t>"Il progetto Pro.Va.Re.: proposte per un sistema di  valutazione"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99"/>
                </a:solidFill>
                <a:latin typeface="Georgia"/>
                <a:ea typeface="Times New Roman"/>
              </a:rPr>
              <a:t> </a:t>
            </a:r>
            <a:r>
              <a:rPr b="1" i="1" lang="it-IT" sz="2400" spc="-1" strike="noStrike">
                <a:solidFill>
                  <a:srgbClr val="000099"/>
                </a:solidFill>
                <a:latin typeface="Georgia"/>
                <a:ea typeface="Times New Roman"/>
              </a:rPr>
              <a:t>17 gennaio 2003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99"/>
                </a:solidFill>
                <a:latin typeface="Georgia"/>
                <a:ea typeface="Times New Roman"/>
              </a:rPr>
              <a:t>Dott. Daniela Cellie </a:t>
            </a:r>
            <a:r>
              <a:rPr b="1" i="1" lang="it-IT" sz="1400" spc="-1" strike="noStrike">
                <a:solidFill>
                  <a:srgbClr val="000099"/>
                </a:solidFill>
                <a:latin typeface="Georgia"/>
                <a:ea typeface="Arial"/>
              </a:rPr>
              <a:t> </a:t>
            </a:r>
            <a:br>
              <a:rPr sz="1400"/>
            </a:br>
            <a:r>
              <a:rPr b="1" i="1" lang="it-IT" sz="1400" spc="-1" strike="noStrike">
                <a:solidFill>
                  <a:srgbClr val="3333cc"/>
                </a:solidFill>
                <a:latin typeface="Georgia"/>
                <a:ea typeface="Arial"/>
              </a:rPr>
              <a:t> 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981080" y="1905120"/>
            <a:ext cx="3429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PRO.VA.RE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553080" y="1523880"/>
          <a:ext cx="1219320" cy="11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1523880"/>
                    <a:ext cx="1219320" cy="11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Tahoma"/>
              </a:rPr>
              <a:t>Progetto PRO.VA.RE: </a:t>
            </a:r>
            <a:r>
              <a:rPr b="1" lang="it-IT" sz="2400" spc="-1" strike="noStrike">
                <a:solidFill>
                  <a:srgbClr val="000099"/>
                </a:solidFill>
                <a:latin typeface="Tahoma"/>
              </a:rPr>
              <a:t>la struttura organizzativa….</a:t>
            </a:r>
            <a:br>
              <a:rPr sz="2400"/>
            </a:br>
            <a:r>
              <a:rPr b="1" lang="it-IT" sz="2400" spc="-1" strike="noStrike">
                <a:solidFill>
                  <a:srgbClr val="000099"/>
                </a:solidFill>
                <a:latin typeface="Tahoma"/>
              </a:rPr>
              <a:t>                                           </a:t>
            </a:r>
            <a:r>
              <a:rPr b="1" lang="it-IT" sz="2800" spc="-1" strike="noStrike">
                <a:solidFill>
                  <a:srgbClr val="000099"/>
                </a:solidFill>
                <a:latin typeface="Tahoma"/>
              </a:rPr>
              <a:t>chi siamo?</a:t>
            </a:r>
            <a:endParaRPr b="0" lang="en-US" sz="28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2743200" y="2819520"/>
            <a:ext cx="3352680" cy="114300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00400" y="3200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imes New Roman"/>
              </a:rPr>
              <a:t>Gruppo regional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2133720"/>
            <a:ext cx="1828800" cy="914400"/>
          </a:xfrm>
          <a:prstGeom prst="ellipse">
            <a:avLst/>
          </a:prstGeom>
          <a:noFill/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6019920" y="4343400"/>
            <a:ext cx="1828800" cy="1143000"/>
          </a:xfrm>
          <a:prstGeom prst="ellipse">
            <a:avLst/>
          </a:prstGeom>
          <a:noFill/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90720" y="3886200"/>
            <a:ext cx="1752480" cy="1066680"/>
          </a:xfrm>
          <a:prstGeom prst="ellipse">
            <a:avLst/>
          </a:prstGeom>
          <a:noFill/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2057400"/>
            <a:ext cx="1905120" cy="990720"/>
          </a:xfrm>
          <a:prstGeom prst="ellipse">
            <a:avLst/>
          </a:prstGeom>
          <a:noFill/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220968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Arial"/>
              </a:rPr>
              <a:t>Gruppo provinciale   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4038480"/>
            <a:ext cx="14479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Arial"/>
              </a:rPr>
              <a:t>Gruppo provincia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Arial"/>
              </a:rPr>
              <a:t>G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5880" y="2133720"/>
            <a:ext cx="16002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Arial"/>
              </a:rPr>
              <a:t>Gruppo provincial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Arial"/>
              </a:rPr>
              <a:t>U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24480" y="4495680"/>
            <a:ext cx="121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Arial"/>
              </a:rPr>
              <a:t>Gruppo provincialeP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1447920"/>
            <a:ext cx="609480" cy="38088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62320" y="1371600"/>
            <a:ext cx="609480" cy="38088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1447920"/>
            <a:ext cx="609480" cy="38088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1905120"/>
            <a:ext cx="609480" cy="38088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3352680"/>
            <a:ext cx="609480" cy="38124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3733920"/>
            <a:ext cx="609480" cy="38088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3200400"/>
            <a:ext cx="609840" cy="38088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66680" y="3581280"/>
            <a:ext cx="609840" cy="38124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4572000"/>
            <a:ext cx="609480" cy="38088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43000" y="4952880"/>
            <a:ext cx="609480" cy="38124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5181480"/>
            <a:ext cx="609480" cy="38124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52480" y="1752480"/>
            <a:ext cx="609840" cy="38124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14600" y="2057400"/>
            <a:ext cx="609480" cy="38088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2286000"/>
            <a:ext cx="609480" cy="38088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848720" y="1981080"/>
            <a:ext cx="609480" cy="38124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00800" y="1447920"/>
            <a:ext cx="609480" cy="38088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238880" y="1600200"/>
            <a:ext cx="609840" cy="38088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4120" y="2209680"/>
            <a:ext cx="609480" cy="38124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638680" y="1828800"/>
            <a:ext cx="609840" cy="38088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76920" y="1752480"/>
            <a:ext cx="609480" cy="38124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0" y="2133720"/>
            <a:ext cx="609480" cy="38088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86600" y="3124080"/>
            <a:ext cx="609480" cy="38124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38280" y="5257800"/>
            <a:ext cx="609840" cy="38088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2895480"/>
            <a:ext cx="609480" cy="38124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001000" y="1523880"/>
            <a:ext cx="609480" cy="38124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05920" y="2438280"/>
            <a:ext cx="609480" cy="38124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4724280"/>
            <a:ext cx="609840" cy="38124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4038480"/>
            <a:ext cx="609480" cy="38124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67280" y="4038480"/>
            <a:ext cx="609840" cy="38124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772400" y="5334120"/>
            <a:ext cx="609480" cy="38088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848720" y="4572000"/>
            <a:ext cx="609480" cy="38088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315200" y="4038480"/>
            <a:ext cx="609480" cy="38124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29600" y="3276720"/>
            <a:ext cx="609480" cy="38088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629400" y="4191120"/>
            <a:ext cx="609480" cy="38088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86400" y="5181480"/>
            <a:ext cx="609480" cy="38124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86400" y="4648320"/>
            <a:ext cx="609480" cy="38088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86600" y="5562720"/>
            <a:ext cx="609480" cy="38088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609480" cy="38088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14600" y="2819520"/>
            <a:ext cx="457200" cy="30456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743200" y="3809520"/>
            <a:ext cx="380880" cy="38124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81480" y="3962520"/>
            <a:ext cx="990720" cy="60948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19520" y="4495680"/>
            <a:ext cx="3124080" cy="22860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7010280" y="3048120"/>
            <a:ext cx="0" cy="121896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2057400" y="2971800"/>
            <a:ext cx="76320" cy="91440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2590920" y="2438280"/>
            <a:ext cx="3352680" cy="7632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5866920" y="2819520"/>
            <a:ext cx="304920" cy="30456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2057040" y="3047760"/>
            <a:ext cx="3962520" cy="160020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2743200" y="3048120"/>
            <a:ext cx="4114800" cy="129528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3520" y="5791320"/>
            <a:ext cx="121896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05120" y="5791320"/>
            <a:ext cx="121896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76720" y="5791320"/>
            <a:ext cx="121896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48320" y="5791320"/>
            <a:ext cx="121896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5867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Times New Roman"/>
              </a:rPr>
              <a:t>Regione?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81080" y="5867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Times New Roman"/>
              </a:rPr>
              <a:t>Univ.Ud?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352680" y="5867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Times New Roman"/>
              </a:rPr>
              <a:t>Univ.TS?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724280" y="586728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800600" y="5943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Times New Roman"/>
              </a:rPr>
              <a:t>IRRE?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6858000" y="5943600"/>
            <a:ext cx="129528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010280" y="6095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Times New Roman"/>
              </a:rPr>
              <a:t>altri?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00400" y="4038480"/>
            <a:ext cx="2209680" cy="838440"/>
          </a:xfrm>
          <a:custGeom>
            <a:avLst/>
            <a:gdLst>
              <a:gd name="textAreaLeft" fmla="*/ 0 w 2209680"/>
              <a:gd name="textAreaRight" fmla="*/ 2210040 w 2209680"/>
              <a:gd name="textAreaTop" fmla="*/ 108720 h 838440"/>
              <a:gd name="textAreaBottom" fmla="*/ 7297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66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00400" y="48006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352680" y="42670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Times New Roman"/>
              </a:rPr>
              <a:t>PATTUIZION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Tahoma"/>
              </a:rPr>
              <a:t>Progetto PRO.VA.RE: chi valuta chi ?</a:t>
            </a:r>
            <a:endParaRPr b="0" lang="en-US" sz="28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2971800" y="2971800"/>
            <a:ext cx="2514600" cy="121932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76720" y="3352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33526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00400" y="32767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66"/>
                </a:solidFill>
                <a:latin typeface="Times New Roman"/>
              </a:rPr>
              <a:t>i soggetti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4572000"/>
            <a:ext cx="6095880" cy="12952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362320" y="502920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438280" y="4876920"/>
            <a:ext cx="4343400" cy="5814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66"/>
                </a:solidFill>
                <a:latin typeface="Arial"/>
              </a:rPr>
              <a:t>i  diversi punti di vista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" y="3733920"/>
            <a:ext cx="1523880" cy="761760"/>
          </a:xfrm>
          <a:prstGeom prst="ellipse">
            <a:avLst/>
          </a:prstGeom>
          <a:noFill/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95680" y="1752480"/>
            <a:ext cx="144792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1905120"/>
            <a:ext cx="1295280" cy="76176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3520" y="2209680"/>
            <a:ext cx="1600200" cy="83844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86000" y="1676520"/>
            <a:ext cx="1447920" cy="76176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38862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imes New Roman"/>
              </a:rPr>
              <a:t>alunn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43000" y="29718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14400" y="25146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23623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2120" y="24382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imes New Roman"/>
              </a:rPr>
              <a:t>genitor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590920" y="205740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62320" y="1828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imes New Roman"/>
              </a:rPr>
              <a:t>docent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648320" y="19051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imes New Roman"/>
              </a:rPr>
              <a:t>dir.sco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629400" y="2133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imes New Roman"/>
              </a:rPr>
              <a:t>a.t.a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81080" y="4114800"/>
            <a:ext cx="914400" cy="6094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57400" y="2743200"/>
            <a:ext cx="1295280" cy="19051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00400" y="2438280"/>
            <a:ext cx="609480" cy="21337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4952520" y="2514600"/>
            <a:ext cx="228600" cy="20574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6019920" y="2666880"/>
            <a:ext cx="838080" cy="19814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086600" y="2743200"/>
            <a:ext cx="1295280" cy="76212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162920" y="3809880"/>
            <a:ext cx="1371600" cy="7621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391520" y="2971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46748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6781680" y="3429000"/>
            <a:ext cx="533520" cy="12952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7620120" y="4572000"/>
            <a:ext cx="380880" cy="5335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17680" y="985320"/>
            <a:ext cx="85960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Tahoma"/>
              </a:rPr>
              <a:t>Progetto PRO.VA.RE:le scuole aderenti</a:t>
            </a:r>
            <a:endParaRPr b="0" lang="en-US" sz="28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Tahoma"/>
              </a:rPr>
              <a:t>Provincia di GORIZIA (7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99"/>
                </a:solidFill>
                <a:latin typeface="Tahoma"/>
              </a:rPr>
              <a:t>5 I.C.  -  1 S.M.   -   1 SUP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Tahoma"/>
              </a:rPr>
              <a:t>Provincia di PORDENONE (9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Tahoma"/>
              </a:rPr>
              <a:t>     </a:t>
            </a:r>
            <a:r>
              <a:rPr b="0" lang="it-IT" sz="2000" spc="-1" strike="noStrike">
                <a:solidFill>
                  <a:srgbClr val="000099"/>
                </a:solidFill>
                <a:latin typeface="Tahoma"/>
              </a:rPr>
              <a:t>5 D.D.  - 2 S.M.  - 2 SUP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Tahoma"/>
              </a:rPr>
              <a:t>Provincia di TRIESTE (11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99"/>
                </a:solidFill>
                <a:latin typeface="Tahoma"/>
              </a:rPr>
              <a:t>2 D.D.  - 3 I.C.  - 6 SUP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Tahoma"/>
              </a:rPr>
              <a:t>Provincia di UDINE (18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99"/>
                </a:solidFill>
                <a:latin typeface="Tahoma"/>
              </a:rPr>
              <a:t>5 D.D.  - 6 I.C.  -  2 S.M.  - 5 SUP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Tahoma"/>
              </a:rPr>
              <a:t>Progetto PRO.VA.RE</a:t>
            </a:r>
            <a:r>
              <a:rPr b="1" lang="it-IT" sz="2400" spc="-1" strike="noStrike">
                <a:solidFill>
                  <a:srgbClr val="000099"/>
                </a:solidFill>
                <a:latin typeface="Tahoma"/>
              </a:rPr>
              <a:t>: alcune questioni</a:t>
            </a:r>
            <a:endParaRPr b="0" lang="en-US" sz="24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925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Tahoma"/>
              </a:rPr>
              <a:t>Le risorse (finanziarie/umane/strutturali)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Tahoma"/>
              </a:rPr>
              <a:t>Percorso di valutazione del progetto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Tahoma"/>
              </a:rPr>
              <a:t>Percorso di formazione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Tahoma"/>
              </a:rPr>
              <a:t>Progetto PRO.VA.RE</a:t>
            </a:r>
            <a:r>
              <a:rPr b="1" lang="it-IT" sz="2400" spc="-1" strike="noStrike">
                <a:solidFill>
                  <a:srgbClr val="000099"/>
                </a:solidFill>
                <a:latin typeface="Tahoma"/>
              </a:rPr>
              <a:t>: </a:t>
            </a:r>
            <a:r>
              <a:rPr b="1" lang="it-IT" sz="2800" spc="-1" strike="noStrike">
                <a:solidFill>
                  <a:srgbClr val="000099"/>
                </a:solidFill>
                <a:latin typeface="Tahoma"/>
              </a:rPr>
              <a:t>il percorso proposto</a:t>
            </a:r>
            <a:endParaRPr b="0" lang="en-US" sz="28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66"/>
                </a:solidFill>
                <a:latin typeface="Tahoma"/>
              </a:rPr>
              <a:t>il diagramma di Gantt: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000066"/>
                </a:solidFill>
                <a:latin typeface="Tahoma"/>
              </a:rPr>
              <a:t>chi fa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000066"/>
                </a:solidFill>
                <a:latin typeface="Tahoma"/>
              </a:rPr>
              <a:t>che cosa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000066"/>
                </a:solidFill>
                <a:latin typeface="Tahoma"/>
              </a:rPr>
              <a:t>quando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000066"/>
                </a:solidFill>
                <a:latin typeface="Tahoma"/>
              </a:rPr>
              <a:t>come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66"/>
                </a:solidFill>
                <a:latin typeface="Tahoma"/>
              </a:rPr>
              <a:t>   …</a:t>
            </a:r>
            <a:r>
              <a:rPr b="0" lang="it-IT" sz="3200" spc="-1" strike="noStrike">
                <a:solidFill>
                  <a:srgbClr val="000066"/>
                </a:solidFill>
                <a:latin typeface="Tahoma"/>
              </a:rPr>
              <a:t>..per PRO.VA.RE insieme a costruire un sistema regionale di valutazione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2" name=""/>
          <p:cNvSpPr/>
          <p:nvPr/>
        </p:nvSpPr>
        <p:spPr>
          <a:xfrm>
            <a:off x="838080" y="510552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66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Tahoma"/>
              </a:rPr>
              <a:t>Progetto PRO.VA.RE: valutazione  come …</a:t>
            </a:r>
            <a:endParaRPr b="0" lang="en-US" sz="28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839080" cy="716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235160" indent="0" algn="just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  <a:p>
            <a:pPr marL="1235160" indent="0" algn="just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  <a:p>
            <a:pPr marL="1235160" indent="0" algn="just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  <a:p>
            <a:pPr marL="123516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… </a:t>
            </a:r>
            <a:r>
              <a:rPr b="1" lang="it-IT" sz="1600" spc="-1" strike="noStrike">
                <a:solidFill>
                  <a:srgbClr val="000099"/>
                </a:solidFill>
                <a:latin typeface="Tahoma"/>
                <a:ea typeface="Times New Roman"/>
              </a:rPr>
              <a:t>parte costitutiva di tutta la sequenza dell’azione di formazione</a:t>
            </a:r>
            <a:r>
              <a:rPr b="0" lang="it-IT" sz="1600" spc="-1" strike="noStrike">
                <a:solidFill>
                  <a:srgbClr val="000099"/>
                </a:solidFill>
                <a:latin typeface="Tahoma"/>
                <a:ea typeface="Times New Roman"/>
              </a:rPr>
              <a:t> e 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123516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99"/>
                </a:solidFill>
                <a:latin typeface="Tahoma"/>
                <a:ea typeface="Times New Roman"/>
              </a:rPr>
              <a:t>     </a:t>
            </a:r>
            <a:r>
              <a:rPr b="0" lang="it-IT" sz="1600" spc="-1" strike="noStrike">
                <a:solidFill>
                  <a:srgbClr val="000099"/>
                </a:solidFill>
                <a:latin typeface="Tahoma"/>
                <a:ea typeface="Times New Roman"/>
              </a:rPr>
              <a:t>interpretazione dell’azione formativa come </a:t>
            </a:r>
            <a:r>
              <a:rPr b="1" lang="it-IT" sz="1600" spc="-1" strike="noStrike">
                <a:solidFill>
                  <a:srgbClr val="000099"/>
                </a:solidFill>
                <a:latin typeface="Tahoma"/>
                <a:ea typeface="Times New Roman"/>
              </a:rPr>
              <a:t>processo globale   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123516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99"/>
                </a:solidFill>
                <a:latin typeface="Tahoma"/>
                <a:ea typeface="Times New Roman"/>
              </a:rPr>
              <a:t>            </a:t>
            </a:r>
            <a:r>
              <a:rPr b="0" lang="it-IT" sz="1600" spc="-1" strike="noStrike">
                <a:solidFill>
                  <a:srgbClr val="000099"/>
                </a:solidFill>
                <a:latin typeface="Tahoma"/>
                <a:ea typeface="Times New Roman"/>
              </a:rPr>
              <a:t>dimensione progettuale/dimensione valutativa 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123516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123516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Tahoma"/>
                <a:ea typeface="Times New Roman"/>
              </a:rPr>
              <a:t>… </a:t>
            </a:r>
            <a:r>
              <a:rPr b="1" lang="it-IT" sz="1600" spc="-1" strike="noStrike">
                <a:solidFill>
                  <a:srgbClr val="000099"/>
                </a:solidFill>
                <a:latin typeface="Tahoma"/>
                <a:ea typeface="Times New Roman"/>
              </a:rPr>
              <a:t>pratica dialogante</a:t>
            </a:r>
            <a:r>
              <a:rPr b="0" lang="it-IT" sz="1600" spc="-1" strike="noStrike">
                <a:solidFill>
                  <a:srgbClr val="000099"/>
                </a:solidFill>
                <a:latin typeface="Tahoma"/>
                <a:ea typeface="Times New Roman"/>
              </a:rPr>
              <a:t>, indagine aperta che si costituisce dentro il corso d’azione  con tutti i soggetti coinvolti 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123516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123516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Tahoma"/>
                <a:ea typeface="Times New Roman"/>
              </a:rPr>
              <a:t>… </a:t>
            </a:r>
            <a:r>
              <a:rPr b="1" lang="it-IT" sz="1600" spc="-1" strike="noStrike">
                <a:solidFill>
                  <a:srgbClr val="000099"/>
                </a:solidFill>
                <a:latin typeface="Tahoma"/>
                <a:ea typeface="Times New Roman"/>
              </a:rPr>
              <a:t>costrutto complesso</a:t>
            </a:r>
            <a:r>
              <a:rPr b="0" lang="it-IT" sz="1600" spc="-1" strike="noStrike">
                <a:solidFill>
                  <a:srgbClr val="000099"/>
                </a:solidFill>
                <a:latin typeface="Tahoma"/>
                <a:ea typeface="Times New Roman"/>
              </a:rPr>
              <a:t> in interazione con il fenomeno valutato, i cui tratti di fondo sono: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123516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99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99"/>
                </a:solidFill>
                <a:latin typeface="Tahoma"/>
                <a:ea typeface="Times New Roman"/>
              </a:rPr>
              <a:t>- la varietà (équipe, scelta ambiti, fonti di informazione, modalità di analisi)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123516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99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99"/>
                </a:solidFill>
                <a:latin typeface="Tahoma"/>
                <a:ea typeface="Times New Roman"/>
              </a:rPr>
              <a:t>- l’apertura (descrizioni multidimensionali, nuove piste di riflessione…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123516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99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123516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              </a:t>
            </a:r>
            <a:r>
              <a:rPr b="0" lang="it-IT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sfondo concettuale: </a:t>
            </a:r>
            <a:r>
              <a:rPr b="1" lang="it-IT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paradigma della complessità</a:t>
            </a:r>
            <a:r>
              <a:rPr b="0" lang="it-IT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 secondo E. Morin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1600200"/>
            <a:ext cx="7543800" cy="76212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175248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atto orientato alla comprensione di qualcos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5638680"/>
            <a:ext cx="609480" cy="457200"/>
          </a:xfrm>
          <a:custGeom>
            <a:avLst/>
            <a:gdLst>
              <a:gd name="textAreaLeft" fmla="*/ 95040 w 609480"/>
              <a:gd name="textAreaRight" fmla="*/ 53352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42960" y="907920"/>
            <a:ext cx="834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Tahoma"/>
              </a:rPr>
              <a:t>Progetto PRO.VA.RE: valutazione  come …</a:t>
            </a:r>
            <a:endParaRPr b="0" lang="en-US" sz="28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99"/>
                </a:solidFill>
                <a:latin typeface="Tahoma"/>
              </a:rPr>
              <a:t>Apprendimento organizzativ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99"/>
                </a:solidFill>
                <a:latin typeface="Tahoma"/>
                <a:ea typeface="Times New Roman"/>
              </a:rPr>
              <a:t>	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99"/>
                </a:solidFill>
                <a:latin typeface="Tahoma"/>
              </a:rPr>
              <a:t>Cambiamento/Migliorament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99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99"/>
                </a:solidFill>
                <a:latin typeface="Tahoma"/>
              </a:rPr>
              <a:t>Riflessività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99"/>
                </a:solidFill>
                <a:latin typeface="Tahoma"/>
                <a:ea typeface="Times New Roman"/>
              </a:rPr>
              <a:t>	</a:t>
            </a:r>
            <a:r>
              <a:rPr b="0" i="1" lang="it-IT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“</a:t>
            </a:r>
            <a:r>
              <a:rPr b="0" i="1" lang="it-IT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la scuola non sempre dispone di strumenti per riflettersi e riflettere su se stessa: i ballerini, che praticano la loro arte a perfezione, dispongono di specchi. </a:t>
            </a:r>
            <a:r>
              <a:rPr b="1" i="1" lang="it-IT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Dove sono i nostri specchi?</a:t>
            </a:r>
            <a:r>
              <a:rPr b="0" i="1" lang="it-IT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 -  Eisner 1988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1828800"/>
            <a:ext cx="8001000" cy="12952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22860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1905120"/>
            <a:ext cx="7391160" cy="15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99"/>
                </a:solidFill>
                <a:latin typeface="Tahoma"/>
                <a:ea typeface="Times New Roman"/>
              </a:rPr>
              <a:t>“</a:t>
            </a:r>
            <a:r>
              <a:rPr b="0" i="1" lang="it-IT" sz="1600" spc="-1" strike="noStrike">
                <a:solidFill>
                  <a:srgbClr val="000099"/>
                </a:solidFill>
                <a:latin typeface="Tahoma"/>
                <a:ea typeface="Times New Roman"/>
              </a:rPr>
              <a:t>Una scuola che apprende è un sistema consapevole della propria soggettiva autonomia e dotato di strumenti di regolazione delle proprie scelte. Le modalità d’autovalutazione divengono dispositivo di lettura della propria esperienza professionale  a livello di singolo individuo e al livello di sistema organizzato utili ad orientare il processo di sviluppo “ -  Luciano Corradini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3581280"/>
            <a:ext cx="8153640" cy="762120"/>
          </a:xfrm>
          <a:prstGeom prst="rect">
            <a:avLst/>
          </a:prstGeom>
          <a:noFill/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37339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3657600"/>
            <a:ext cx="7848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” </a:t>
            </a:r>
            <a:r>
              <a:rPr b="0" i="1" lang="it-IT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non vi sono venti favorevoli per coloro che non  sanno dove andare” - Senec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4952880"/>
            <a:ext cx="8077320" cy="1143000"/>
          </a:xfrm>
          <a:prstGeom prst="rect">
            <a:avLst/>
          </a:prstGeom>
          <a:noFill/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Tahoma"/>
              </a:rPr>
              <a:t>Progetto PRO.VA.RE: valutare cosa ?</a:t>
            </a:r>
            <a:endParaRPr b="0" lang="en-US" sz="28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335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Pur assumendo come oggetto principale gli </a:t>
            </a:r>
            <a:r>
              <a:rPr b="1" lang="it-IT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esiti e gli effetti</a:t>
            </a:r>
            <a:r>
              <a:rPr b="0" lang="it-IT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di un intervento, non ci si può fermare alla registrazione  e al trattamento analitico dei risultati, ma ci si deve riferire all’insieme delle azioni che hanno generato tali risultati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5335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2971800"/>
            <a:ext cx="8305920" cy="160020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3124080"/>
            <a:ext cx="792504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Attenzion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alla considerazione dei risultati  come esito e par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integrante di corsi d’azione, la cui ricostruzione descrizione e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Interpretazione,  aiuta a comprendere sia i processi sia i risultat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14800" y="4724280"/>
            <a:ext cx="609480" cy="3049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5334120"/>
            <a:ext cx="79250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la valutazione costituisce allora un formidabile strumento di apprendimento e  cambiamento in un’ottica di miglioramento del servizio scolastic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Tahoma"/>
              </a:rPr>
              <a:t>Progetto PRO.VA.RE: </a:t>
            </a:r>
            <a:r>
              <a:rPr b="1" lang="it-IT" sz="2400" spc="-1" strike="noStrike">
                <a:solidFill>
                  <a:srgbClr val="000099"/>
                </a:solidFill>
                <a:latin typeface="Tahoma"/>
              </a:rPr>
              <a:t>quali metodologie, quali tecniche, quali strumenti?</a:t>
            </a:r>
            <a:endParaRPr b="0" lang="en-US" sz="24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cc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66"/>
                </a:solidFill>
                <a:latin typeface="Arial"/>
                <a:ea typeface="Arial"/>
              </a:rPr>
              <a:t>                   </a:t>
            </a:r>
            <a:r>
              <a:rPr b="1" lang="it-IT" sz="2000" spc="-1" strike="noStrike">
                <a:solidFill>
                  <a:srgbClr val="cc00cc"/>
                </a:solidFill>
                <a:latin typeface="Arial"/>
                <a:ea typeface="Arial"/>
              </a:rPr>
              <a:t>Se per valutazione intendiamo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66ccff"/>
                </a:solidFill>
                <a:latin typeface="Arial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”</a:t>
            </a:r>
            <a:r>
              <a:rPr b="0" i="1" lang="it-IT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...</a:t>
            </a:r>
            <a:r>
              <a:rPr b="1" i="1" lang="it-IT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un processo di ricerca sociale applicata,  orientato alla comprensione e all’apprezzamento, in campi d’azione determinati, dei risultati conseguiti, in una prospettiva analitica che include  nel proprio raggio l’intero processo di azione considerato”  (D. Lipari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99"/>
                </a:solidFill>
                <a:latin typeface="Tahoma"/>
                <a:ea typeface="Times New Roman"/>
              </a:rPr>
              <a:t>	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99"/>
                </a:solidFill>
                <a:latin typeface="Tahoma"/>
                <a:ea typeface="Times New Roman"/>
              </a:rPr>
              <a:t>      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2590920"/>
            <a:ext cx="380880" cy="914400"/>
          </a:xfrm>
          <a:custGeom>
            <a:avLst/>
            <a:gdLst>
              <a:gd name="textAreaLeft" fmla="*/ 50760 w 380880"/>
              <a:gd name="textAreaRight" fmla="*/ 330120 w 38088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4648320"/>
            <a:ext cx="5943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3429000"/>
            <a:ext cx="7848360" cy="99072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3581280"/>
            <a:ext cx="8153640" cy="18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Tahoma"/>
                <a:ea typeface="Times New Roman"/>
              </a:rPr>
              <a:t>…</a:t>
            </a:r>
            <a:r>
              <a:rPr b="0" lang="it-IT" sz="2000" spc="-1" strike="noStrike">
                <a:solidFill>
                  <a:srgbClr val="000099"/>
                </a:solidFill>
                <a:latin typeface="Tahoma"/>
                <a:ea typeface="Times New Roman"/>
              </a:rPr>
              <a:t>.. l’utilità/validità di un modello viene  considerata  in rapporto all’effettiva utilità e alle specifiche esigenze di una data situazion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cc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4800600"/>
            <a:ext cx="8001000" cy="152388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4724280"/>
            <a:ext cx="60962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99"/>
                </a:solidFill>
                <a:latin typeface="Arial"/>
                <a:ea typeface="Arial"/>
              </a:rPr>
              <a:t>superamento polarità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99"/>
                </a:solidFill>
                <a:latin typeface="Arial"/>
                <a:ea typeface="Arial"/>
              </a:rPr>
              <a:t>metodo quantitativo/metodo qualitativ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99"/>
                </a:solidFill>
                <a:latin typeface="Arial"/>
                <a:ea typeface="Arial"/>
              </a:rPr>
              <a:t>oggettività/soggettività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99"/>
                </a:solidFill>
                <a:latin typeface="Arial"/>
                <a:ea typeface="Arial"/>
              </a:rPr>
              <a:t>ma rigorosità della procedura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 algn="ctr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spcBef>
                <a:spcPts val="400"/>
              </a:spcBef>
              <a:buClr>
                <a:srgbClr val="cc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933480"/>
            <a:ext cx="858024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Tahoma"/>
              </a:rPr>
              <a:t>Progetto PRO.VA.RE: valutazione  per…</a:t>
            </a:r>
            <a:endParaRPr b="0" lang="en-US" sz="28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049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99"/>
                </a:solidFill>
                <a:latin typeface="Tahoma"/>
                <a:ea typeface="Arial"/>
              </a:rPr>
              <a:t>                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274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99"/>
                </a:solidFill>
                <a:latin typeface="Tahoma"/>
                <a:ea typeface="Arial"/>
              </a:rPr>
              <a:t>	</a:t>
            </a:r>
            <a:r>
              <a:rPr b="1" lang="it-IT" sz="2000" spc="-1" strike="noStrike">
                <a:solidFill>
                  <a:srgbClr val="000099"/>
                </a:solidFill>
                <a:latin typeface="Tahoma"/>
                <a:ea typeface="Arial"/>
              </a:rPr>
              <a:t>	</a:t>
            </a:r>
            <a:r>
              <a:rPr b="1" lang="it-IT" sz="2000" spc="-1" strike="noStrike">
                <a:solidFill>
                  <a:srgbClr val="000099"/>
                </a:solidFill>
                <a:latin typeface="Tahoma"/>
                <a:ea typeface="Arial"/>
              </a:rPr>
              <a:t>	</a:t>
            </a:r>
            <a:r>
              <a:rPr b="1" lang="it-IT" sz="2000" spc="-1" strike="noStrike">
                <a:solidFill>
                  <a:srgbClr val="000099"/>
                </a:solidFill>
                <a:latin typeface="Tahoma"/>
                <a:ea typeface="Arial"/>
              </a:rPr>
              <a:t>	</a:t>
            </a:r>
            <a:r>
              <a:rPr b="1" lang="it-IT" sz="2000" spc="-1" strike="noStrike">
                <a:solidFill>
                  <a:srgbClr val="000099"/>
                </a:solidFill>
                <a:latin typeface="Tahoma"/>
                <a:ea typeface="Arial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2743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Arial"/>
                <a:ea typeface="Arial"/>
              </a:rPr>
              <a:t>     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2743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it-IT" sz="1600" spc="-1" strike="noStrike">
                <a:solidFill>
                  <a:srgbClr val="000099"/>
                </a:solidFill>
                <a:latin typeface="Arial"/>
                <a:ea typeface="Arial"/>
              </a:rPr>
              <a:t>per rendere più efficace ed efficiente il servizio scolastico nel “</a:t>
            </a:r>
            <a:r>
              <a:rPr b="1" i="1" lang="it-IT" sz="1600" spc="-1" strike="noStrike">
                <a:solidFill>
                  <a:srgbClr val="000099"/>
                </a:solidFill>
                <a:latin typeface="Arial"/>
                <a:ea typeface="Arial"/>
              </a:rPr>
              <a:t>restituire”</a:t>
            </a:r>
            <a:r>
              <a:rPr b="1" lang="it-IT" sz="1600" spc="-1" strike="noStrike">
                <a:solidFill>
                  <a:srgbClr val="000099"/>
                </a:solidFill>
                <a:latin typeface="Arial"/>
                <a:ea typeface="Arial"/>
              </a:rPr>
              <a:t> soggetti in grado di interagire attivamente nella  realtà  sociale e produttiva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27432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2743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2743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000099"/>
                </a:solidFill>
                <a:latin typeface="Arial"/>
                <a:ea typeface="Arial"/>
              </a:rPr>
              <a:t>        </a:t>
            </a:r>
            <a:r>
              <a:rPr b="1" lang="it-IT" sz="1800" spc="-1" strike="noStrike">
                <a:solidFill>
                  <a:srgbClr val="000099"/>
                </a:solidFill>
                <a:latin typeface="Arial"/>
                <a:ea typeface="Arial"/>
              </a:rPr>
              <a:t>attraverso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2743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it-IT" sz="1600" spc="-1" strike="noStrike">
                <a:solidFill>
                  <a:srgbClr val="000099"/>
                </a:solidFill>
                <a:latin typeface="Tahoma"/>
                <a:ea typeface="Tahoma"/>
              </a:rPr>
              <a:t>•</a:t>
            </a:r>
            <a:r>
              <a:rPr b="1" lang="it-IT" sz="16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it-IT" sz="1600" spc="-1" strike="noStrike">
                <a:solidFill>
                  <a:srgbClr val="000099"/>
                </a:solidFill>
                <a:latin typeface="Tahoma"/>
                <a:ea typeface="Arial"/>
              </a:rPr>
              <a:t>la costruzione e  lo  sviluppo di un sistema regionale di valutazione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Tahoma"/>
                <a:ea typeface="Arial"/>
              </a:rPr>
              <a:t>	</a:t>
            </a:r>
            <a:r>
              <a:rPr b="0" lang="it-IT" sz="1200" spc="-1" strike="noStrike">
                <a:solidFill>
                  <a:srgbClr val="000099"/>
                </a:solidFill>
                <a:latin typeface="Tahoma"/>
                <a:ea typeface="Arial"/>
              </a:rPr>
              <a:t>	</a:t>
            </a:r>
            <a:r>
              <a:rPr b="0" lang="it-IT" sz="1200" spc="-1" strike="noStrike">
                <a:solidFill>
                  <a:srgbClr val="000099"/>
                </a:solidFill>
                <a:latin typeface="Tahoma"/>
                <a:ea typeface="Arial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Tahoma"/>
                <a:ea typeface="Arial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Tahoma"/>
                <a:ea typeface="Arial"/>
              </a:rPr>
              <a:t>	</a:t>
            </a:r>
            <a:r>
              <a:rPr b="1" lang="it-IT" sz="1600" spc="-1" strike="noStrike">
                <a:solidFill>
                  <a:srgbClr val="000099"/>
                </a:solidFill>
                <a:latin typeface="Tahoma"/>
                <a:ea typeface="Tahoma"/>
              </a:rPr>
              <a:t>•</a:t>
            </a:r>
            <a:r>
              <a:rPr b="0" lang="it-IT" sz="1200" spc="-1" strike="noStrike">
                <a:solidFill>
                  <a:srgbClr val="000099"/>
                </a:solidFill>
                <a:latin typeface="Tahoma"/>
                <a:ea typeface="Arial"/>
              </a:rPr>
              <a:t> </a:t>
            </a:r>
            <a:r>
              <a:rPr b="1" lang="it-IT" sz="1600" spc="-1" strike="noStrike">
                <a:solidFill>
                  <a:srgbClr val="000099"/>
                </a:solidFill>
                <a:latin typeface="Tahoma"/>
                <a:ea typeface="Arial"/>
              </a:rPr>
              <a:t>la diffusione e il confronto delle “best practices” esistenti in regione nel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Tahoma"/>
                <a:ea typeface="Arial"/>
              </a:rPr>
              <a:t>      </a:t>
            </a:r>
            <a:r>
              <a:rPr b="1" lang="it-IT" sz="1600" spc="-1" strike="noStrike">
                <a:solidFill>
                  <a:srgbClr val="000099"/>
                </a:solidFill>
                <a:latin typeface="Tahoma"/>
                <a:ea typeface="Arial"/>
              </a:rPr>
              <a:t>campo  valutativo anche on line  tramite il sito web della Direzione Reg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Tahoma"/>
                <a:ea typeface="Arial"/>
              </a:rPr>
              <a:t>	</a:t>
            </a:r>
            <a:r>
              <a:rPr b="1" lang="it-IT" sz="1600" spc="-1" strike="noStrike">
                <a:solidFill>
                  <a:srgbClr val="000099"/>
                </a:solidFill>
                <a:latin typeface="Tahoma"/>
                <a:ea typeface="Tahoma"/>
              </a:rPr>
              <a:t>•</a:t>
            </a:r>
            <a:r>
              <a:rPr b="1" lang="it-IT" sz="1600" spc="-1" strike="noStrike">
                <a:solidFill>
                  <a:srgbClr val="000099"/>
                </a:solidFill>
                <a:latin typeface="Tahoma"/>
                <a:ea typeface="Arial"/>
              </a:rPr>
              <a:t> </a:t>
            </a:r>
            <a:r>
              <a:rPr b="1" lang="it-IT" sz="1600" spc="-1" strike="noStrike">
                <a:solidFill>
                  <a:srgbClr val="000099"/>
                </a:solidFill>
                <a:latin typeface="Tahoma"/>
                <a:ea typeface="Arial"/>
              </a:rPr>
              <a:t>l’ offerta di  un percorso di accompagnamento/sostegno/consulenza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Tahoma"/>
                <a:ea typeface="Arial"/>
              </a:rPr>
              <a:t>       </a:t>
            </a:r>
            <a:r>
              <a:rPr b="1" lang="it-IT" sz="1600" spc="-1" strike="noStrike">
                <a:solidFill>
                  <a:srgbClr val="000099"/>
                </a:solidFill>
                <a:latin typeface="Tahoma"/>
                <a:ea typeface="Arial"/>
              </a:rPr>
              <a:t>alle reti provinciali di scuole ed alle istituzioni scolastiche impegnate in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Tahoma"/>
                <a:ea typeface="Arial"/>
              </a:rPr>
              <a:t>       </a:t>
            </a:r>
            <a:r>
              <a:rPr b="1" lang="it-IT" sz="1600" spc="-1" strike="noStrike">
                <a:solidFill>
                  <a:srgbClr val="000099"/>
                </a:solidFill>
                <a:latin typeface="Tahoma"/>
                <a:ea typeface="Arial"/>
              </a:rPr>
              <a:t>propri percorsi valutativi ed  autovalutativi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Tahoma"/>
                <a:ea typeface="Arial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2743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Tahoma"/>
                <a:ea typeface="Arial"/>
              </a:rPr>
              <a:t> 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3048120"/>
            <a:ext cx="60948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1371600"/>
            <a:ext cx="7467840" cy="91440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47920" y="152388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99"/>
                </a:solidFill>
                <a:latin typeface="Tahoma"/>
                <a:ea typeface="Arial"/>
              </a:rPr>
              <a:t>… </a:t>
            </a:r>
            <a:r>
              <a:rPr b="1" lang="it-IT" sz="2000" spc="-1" strike="noStrike">
                <a:solidFill>
                  <a:srgbClr val="000099"/>
                </a:solidFill>
                <a:latin typeface="Tahoma"/>
                <a:ea typeface="Arial"/>
              </a:rPr>
              <a:t>il miglioramento del servizio scolastic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3886200"/>
            <a:ext cx="8076960" cy="2590920"/>
          </a:xfrm>
          <a:prstGeom prst="rect">
            <a:avLst/>
          </a:prstGeom>
          <a:noFill/>
          <a:ln w="255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Tahoma"/>
                <a:ea typeface="Arial"/>
              </a:rPr>
              <a:t>costruzione e  sviluppo di un sistema regionale di valutazione</a:t>
            </a:r>
            <a:endParaRPr b="0" lang="en-US" sz="24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  <a:ea typeface="Arial"/>
              </a:rPr>
              <a:t>caratterizzato da: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99"/>
                </a:solidFill>
                <a:latin typeface="Tahoma"/>
                <a:ea typeface="Arial"/>
              </a:rPr>
              <a:t> </a:t>
            </a:r>
            <a:r>
              <a:rPr b="0" lang="it-IT" sz="1400" spc="-1" strike="noStrike">
                <a:solidFill>
                  <a:srgbClr val="000099"/>
                </a:solidFill>
                <a:latin typeface="Tahoma"/>
                <a:ea typeface="Arial"/>
              </a:rPr>
              <a:t>una stretta correlazione con la progettazione dei </a:t>
            </a:r>
            <a:r>
              <a:rPr b="1" lang="it-IT" sz="1400" spc="-1" strike="noStrike">
                <a:solidFill>
                  <a:srgbClr val="000099"/>
                </a:solidFill>
                <a:latin typeface="Tahoma"/>
                <a:ea typeface="Arial"/>
              </a:rPr>
              <a:t>piani dell’offerta formativa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99"/>
                </a:solidFill>
                <a:latin typeface="Tahoma"/>
                <a:ea typeface="Arial"/>
              </a:rPr>
              <a:t> </a:t>
            </a:r>
            <a:r>
              <a:rPr b="0" lang="it-IT" sz="1400" spc="-1" strike="noStrike">
                <a:solidFill>
                  <a:srgbClr val="000099"/>
                </a:solidFill>
                <a:latin typeface="Tahoma"/>
                <a:ea typeface="Arial"/>
              </a:rPr>
              <a:t>una prospettiva di </a:t>
            </a:r>
            <a:r>
              <a:rPr b="1" lang="it-IT" sz="1400" spc="-1" strike="noStrike">
                <a:solidFill>
                  <a:srgbClr val="000099"/>
                </a:solidFill>
                <a:latin typeface="Tahoma"/>
                <a:ea typeface="Arial"/>
              </a:rPr>
              <a:t>miglioramento </a:t>
            </a:r>
            <a:r>
              <a:rPr b="0" lang="it-IT" sz="1400" spc="-1" strike="noStrike">
                <a:solidFill>
                  <a:srgbClr val="000099"/>
                </a:solidFill>
                <a:latin typeface="Tahoma"/>
                <a:ea typeface="Arial"/>
              </a:rPr>
              <a:t>del servizio scolastico in cui l’attività valutativa ha una chiara funzione di  supporto ai processi decisionali e al </a:t>
            </a:r>
            <a:r>
              <a:rPr b="1" lang="it-IT" sz="1400" spc="-1" strike="noStrike">
                <a:solidFill>
                  <a:srgbClr val="000099"/>
                </a:solidFill>
                <a:latin typeface="Tahoma"/>
                <a:ea typeface="Arial"/>
              </a:rPr>
              <a:t>cambiamento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99"/>
                </a:solidFill>
                <a:latin typeface="Tahoma"/>
                <a:ea typeface="Arial"/>
              </a:rPr>
              <a:t> </a:t>
            </a:r>
            <a:r>
              <a:rPr b="0" lang="it-IT" sz="1400" spc="-1" strike="noStrike">
                <a:solidFill>
                  <a:srgbClr val="000099"/>
                </a:solidFill>
                <a:latin typeface="Tahoma"/>
                <a:ea typeface="Arial"/>
              </a:rPr>
              <a:t>l’utilizzazione dei </a:t>
            </a:r>
            <a:r>
              <a:rPr b="1" lang="it-IT" sz="1400" spc="-1" strike="noStrike">
                <a:solidFill>
                  <a:srgbClr val="000099"/>
                </a:solidFill>
                <a:latin typeface="Tahoma"/>
                <a:ea typeface="Arial"/>
              </a:rPr>
              <a:t>supporti informatici</a:t>
            </a:r>
            <a:r>
              <a:rPr b="0" lang="it-IT" sz="1400" spc="-1" strike="noStrike">
                <a:solidFill>
                  <a:srgbClr val="000099"/>
                </a:solidFill>
                <a:latin typeface="Tahoma"/>
                <a:ea typeface="Arial"/>
              </a:rPr>
              <a:t>  che consentano la creazione di data base  regionali  </a:t>
            </a:r>
            <a:r>
              <a:rPr b="0" i="1" lang="it-IT" sz="1400" spc="-1" strike="noStrike">
                <a:solidFill>
                  <a:srgbClr val="000099"/>
                </a:solidFill>
                <a:latin typeface="Tahoma"/>
                <a:ea typeface="Arial"/>
              </a:rPr>
              <a:t>in progress</a:t>
            </a:r>
            <a:r>
              <a:rPr b="0" lang="it-IT" sz="1400" spc="-1" strike="noStrike">
                <a:solidFill>
                  <a:srgbClr val="000099"/>
                </a:solidFill>
                <a:latin typeface="Tahoma"/>
                <a:ea typeface="Arial"/>
              </a:rPr>
              <a:t> che  possano costituire una base informativa dell’intero sistema scolastico regionale e di software  a supporto dell’attività valutativa dei docenti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99"/>
                </a:solidFill>
                <a:latin typeface="Tahoma"/>
                <a:ea typeface="Times New Roman"/>
              </a:rPr>
              <a:t> </a:t>
            </a:r>
            <a:r>
              <a:rPr b="0" lang="it-IT" sz="1400" spc="-1" strike="noStrike">
                <a:solidFill>
                  <a:srgbClr val="000099"/>
                </a:solidFill>
                <a:latin typeface="Tahoma"/>
                <a:ea typeface="Times New Roman"/>
              </a:rPr>
              <a:t>l’u</a:t>
            </a:r>
            <a:r>
              <a:rPr b="0" lang="it-IT" sz="1400" spc="-1" strike="noStrike">
                <a:solidFill>
                  <a:srgbClr val="000099"/>
                </a:solidFill>
                <a:latin typeface="Tahoma"/>
                <a:ea typeface="Arial"/>
              </a:rPr>
              <a:t>tilizzazione del </a:t>
            </a:r>
            <a:r>
              <a:rPr b="1" lang="it-IT" sz="1400" spc="-1" strike="noStrike">
                <a:solidFill>
                  <a:srgbClr val="000099"/>
                </a:solidFill>
                <a:latin typeface="Tahoma"/>
                <a:ea typeface="Arial"/>
              </a:rPr>
              <a:t>portale della direzione regionale</a:t>
            </a:r>
            <a:r>
              <a:rPr b="0" lang="it-IT" sz="1400" spc="-1" strike="noStrike">
                <a:solidFill>
                  <a:srgbClr val="000099"/>
                </a:solidFill>
                <a:latin typeface="Tahoma"/>
                <a:ea typeface="Arial"/>
              </a:rPr>
              <a:t> quale occasione di confronto, scambio, dibattito  e implementazione dei processi valutativi messi in atto dalle diverse istituzioni scolastiche 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2971800"/>
            <a:ext cx="8077320" cy="320040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2133720"/>
            <a:ext cx="2209680" cy="68580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2286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"/>
              </a:rPr>
              <a:t>sistematicità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43400" y="2514600"/>
            <a:ext cx="1905120" cy="68580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62320" y="2514600"/>
            <a:ext cx="1828800" cy="68580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6248520" y="2513880"/>
            <a:ext cx="2361960" cy="68580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1460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</a:rPr>
              <a:t>organicità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22860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2590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</a:rPr>
              <a:t>unitarietà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00800" y="259092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77120" y="26668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53080" y="2590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</a:rPr>
              <a:t>sostenibilità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1752480"/>
            <a:ext cx="2819520" cy="68580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1905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imes New Roman"/>
              </a:rPr>
              <a:t>pluridimensionalità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692280"/>
            <a:ext cx="8808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Tahoma"/>
              </a:rPr>
              <a:t>Progetto PRO.VA.RE: valutare cosa ?</a:t>
            </a:r>
            <a:r>
              <a:rPr b="0" lang="it-IT" sz="2400" spc="-1" strike="noStrike">
                <a:solidFill>
                  <a:srgbClr val="000099"/>
                </a:solidFill>
                <a:latin typeface="Tahoma"/>
              </a:rPr>
              <a:t> </a:t>
            </a:r>
            <a:br>
              <a:rPr sz="2400"/>
            </a:br>
            <a:r>
              <a:rPr b="0" lang="it-IT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1" lang="it-IT" sz="2800" spc="-1" strike="noStrike">
                <a:solidFill>
                  <a:srgbClr val="000099"/>
                </a:solidFill>
                <a:latin typeface="Tahoma"/>
              </a:rPr>
              <a:t>4 percorsi interconnessi</a:t>
            </a:r>
            <a:endParaRPr b="0" lang="en-US" sz="28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it-IT" sz="2000" spc="-1" strike="noStrike">
                <a:solidFill>
                  <a:srgbClr val="000099"/>
                </a:solidFill>
                <a:latin typeface="Tahoma"/>
                <a:ea typeface="Arial"/>
              </a:rPr>
              <a:t>Il progetto si articola in </a:t>
            </a:r>
            <a:r>
              <a:rPr b="1" lang="it-IT" sz="2000" spc="-1" strike="noStrike">
                <a:solidFill>
                  <a:srgbClr val="000099"/>
                </a:solidFill>
                <a:latin typeface="Tahoma"/>
                <a:ea typeface="Arial"/>
              </a:rPr>
              <a:t>4 percorsi specifici</a:t>
            </a:r>
            <a:r>
              <a:rPr b="0" lang="it-IT" sz="2000" spc="-1" strike="noStrike">
                <a:solidFill>
                  <a:srgbClr val="000099"/>
                </a:solidFill>
                <a:latin typeface="Tahoma"/>
                <a:ea typeface="Arial"/>
              </a:rPr>
              <a:t> ma </a:t>
            </a:r>
            <a:r>
              <a:rPr b="1" lang="it-IT" sz="2000" spc="-1" strike="noStrike">
                <a:solidFill>
                  <a:srgbClr val="000099"/>
                </a:solidFill>
                <a:latin typeface="Tahoma"/>
                <a:ea typeface="Arial"/>
              </a:rPr>
              <a:t>fortemente interrelati</a:t>
            </a:r>
            <a:r>
              <a:rPr b="0" lang="it-IT" sz="2000" spc="-1" strike="noStrike">
                <a:solidFill>
                  <a:srgbClr val="000099"/>
                </a:solidFill>
                <a:latin typeface="Tahoma"/>
                <a:ea typeface="Arial"/>
              </a:rPr>
              <a:t> tra loro,  relativi ai diversi </a:t>
            </a:r>
            <a:r>
              <a:rPr b="1" lang="it-IT" sz="2000" spc="-1" strike="noStrike">
                <a:solidFill>
                  <a:srgbClr val="000099"/>
                </a:solidFill>
                <a:latin typeface="Tahoma"/>
                <a:ea typeface="Arial"/>
              </a:rPr>
              <a:t>oggetti di valutazione</a:t>
            </a:r>
            <a:r>
              <a:rPr b="0" lang="it-IT" sz="2000" spc="-1" strike="noStrike">
                <a:solidFill>
                  <a:srgbClr val="000099"/>
                </a:solidFill>
                <a:latin typeface="Tahoma"/>
                <a:ea typeface="Arial"/>
              </a:rPr>
              <a:t> presi in considerazion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4800600"/>
            <a:ext cx="3047760" cy="1371600"/>
          </a:xfrm>
          <a:prstGeom prst="ellipse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3124080"/>
            <a:ext cx="2971800" cy="106704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38480" y="4876920"/>
            <a:ext cx="4496040" cy="129528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81480" y="3276720"/>
            <a:ext cx="2971800" cy="1066680"/>
          </a:xfrm>
          <a:prstGeom prst="ellipse">
            <a:avLst/>
          </a:prstGeom>
          <a:noFill/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33526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327672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Valutazione P.O.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38680" y="34290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Valutazione alunn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49528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5105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Valutazione servizio scolastic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5257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14800" y="5181480"/>
            <a:ext cx="42670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Valutazione insegnamento/apprendiment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4114800"/>
            <a:ext cx="1218960" cy="10666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124080" y="3962160"/>
            <a:ext cx="2057400" cy="10666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0" y="419112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62520" y="3581280"/>
            <a:ext cx="12952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5638680"/>
            <a:ext cx="457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77120" y="4343400"/>
            <a:ext cx="0" cy="5335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560" y="247320"/>
            <a:ext cx="880884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Tahoma"/>
              </a:rPr>
              <a:t>Progetto PRO.VA.RE: </a:t>
            </a:r>
            <a:r>
              <a:rPr b="1" lang="it-IT" sz="2400" spc="-1" strike="noStrike">
                <a:solidFill>
                  <a:srgbClr val="000099"/>
                </a:solidFill>
                <a:latin typeface="Tahoma"/>
              </a:rPr>
              <a:t>la struttura organizzativa….</a:t>
            </a:r>
            <a:br>
              <a:rPr sz="2400"/>
            </a:br>
            <a:r>
              <a:rPr b="1" lang="it-IT" sz="2400" spc="-1" strike="noStrike">
                <a:solidFill>
                  <a:srgbClr val="000099"/>
                </a:solidFill>
                <a:latin typeface="Tahoma"/>
              </a:rPr>
              <a:t>                                           </a:t>
            </a:r>
            <a:r>
              <a:rPr b="1" lang="it-IT" sz="2800" spc="-1" strike="noStrike">
                <a:solidFill>
                  <a:srgbClr val="000099"/>
                </a:solidFill>
                <a:latin typeface="Tahoma"/>
              </a:rPr>
              <a:t>chi siamo?</a:t>
            </a:r>
            <a:r>
              <a:rPr b="0" lang="it-IT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99"/>
                </a:solidFill>
                <a:latin typeface="Tahoma"/>
                <a:ea typeface="Arial"/>
              </a:rPr>
              <a:t>livello regional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99"/>
                </a:solidFill>
                <a:latin typeface="Arial"/>
                <a:ea typeface="Arial"/>
              </a:rPr>
              <a:t>      </a:t>
            </a:r>
            <a:r>
              <a:rPr b="0" lang="it-IT" sz="1600" spc="-1" strike="noStrike">
                <a:solidFill>
                  <a:srgbClr val="000099"/>
                </a:solidFill>
                <a:latin typeface="Arial"/>
                <a:ea typeface="Arial"/>
              </a:rPr>
              <a:t>gruppo di valutazione costituito all’interno della Direzione Regionale formato da da: dott. Monaco dirigente Area B - Carminati, Cellie, Cibin, Pavatti, Zocchi, coordinato dall’Isp.Torchio –supporto organizzativo:Prezzi,Contento, Dapas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99"/>
                </a:solidFill>
                <a:latin typeface="Arial"/>
                <a:ea typeface="Arial"/>
              </a:rPr>
              <a:t>      </a:t>
            </a:r>
            <a:r>
              <a:rPr b="0" lang="it-IT" sz="1600" spc="-1" strike="noStrike">
                <a:solidFill>
                  <a:srgbClr val="000099"/>
                </a:solidFill>
                <a:latin typeface="Arial"/>
                <a:ea typeface="Arial"/>
              </a:rPr>
              <a:t>+ esperti in ricerca valutativa   (N.Bottani – E.Gori)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ff"/>
                </a:solidFill>
                <a:latin typeface="Tahoma"/>
                <a:ea typeface="Arial"/>
              </a:rPr>
              <a:t>livello provinciale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66ff"/>
                </a:solidFill>
                <a:latin typeface="Tahoma"/>
                <a:ea typeface="Arial"/>
              </a:rPr>
              <a:t>	</a:t>
            </a:r>
            <a:r>
              <a:rPr b="0" lang="it-IT" sz="1600" spc="-1" strike="noStrike">
                <a:solidFill>
                  <a:srgbClr val="0066ff"/>
                </a:solidFill>
                <a:latin typeface="Tahoma"/>
                <a:ea typeface="Arial"/>
              </a:rPr>
              <a:t>4 gruppi provinciali operativi, formati dai dirigenti e dagli insegnanti referenti delle scuole aderenti al progetto. Ciascun gruppo provinciale operativo sarà coordinato da uno dei suoi membri. da 1 dirigente scolastico  E’ prevista la produzione di materiali da parte dei gruppi provinciali, materiali che verranno coordinati e sistematizzati da alcuni membri dei gruppi stessi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ff"/>
                </a:solidFill>
                <a:latin typeface="Tahoma"/>
                <a:ea typeface="Arial"/>
              </a:rPr>
              <a:t>livello di istituzione scolastica</a:t>
            </a:r>
            <a:r>
              <a:rPr b="1" lang="it-IT" sz="1600" spc="-1" strike="noStrike">
                <a:solidFill>
                  <a:srgbClr val="ff00ff"/>
                </a:solidFill>
                <a:latin typeface="Tahoma"/>
                <a:ea typeface="Arial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ff"/>
                </a:solidFill>
                <a:latin typeface="Arial"/>
                <a:ea typeface="Arial"/>
              </a:rPr>
              <a:t>	</a:t>
            </a:r>
            <a:r>
              <a:rPr b="0" lang="it-IT" sz="1600" spc="-1" strike="noStrike">
                <a:solidFill>
                  <a:srgbClr val="ff00ff"/>
                </a:solidFill>
                <a:latin typeface="Arial"/>
                <a:ea typeface="Arial"/>
              </a:rPr>
              <a:t>dirigente scolastico + 2 docenti interessati alle tematiche valutative,  uno con discrete competenze informatiche e uno con buone competenze linguistiche, 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ff"/>
                </a:solidFill>
                <a:latin typeface="Arial"/>
                <a:ea typeface="Arial"/>
              </a:rPr>
              <a:t>	</a:t>
            </a:r>
            <a:r>
              <a:rPr b="0" lang="it-IT" sz="1600" spc="-1" strike="noStrike">
                <a:solidFill>
                  <a:srgbClr val="ff00ff"/>
                </a:solidFill>
                <a:latin typeface="Arial"/>
                <a:ea typeface="Arial"/>
              </a:rPr>
              <a:t>Formazione di  un gruppo di valutazione interno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371600"/>
            <a:ext cx="8382240" cy="144792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2971800"/>
            <a:ext cx="8305920" cy="1600200"/>
          </a:xfrm>
          <a:prstGeom prst="rect">
            <a:avLst/>
          </a:prstGeom>
          <a:noFill/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4724280"/>
            <a:ext cx="8305920" cy="129564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2T08:34:31Z</dcterms:created>
  <dc:creator>Un utente soddisfatto di Microsoft Office</dc:creator>
  <dc:description/>
  <dc:language>en-US</dc:language>
  <cp:lastModifiedBy>Un utente soddisfatto di Microsoft Office</cp:lastModifiedBy>
  <dcterms:modified xsi:type="dcterms:W3CDTF">2003-01-16T23:14:15Z</dcterms:modified>
  <cp:revision>38</cp:revision>
  <dc:subject/>
  <dc:title>Miur Uffico Scolastico Regionale - Direzione Generale - Friuli Venezia Giulia  Progetto  </dc:title>
</cp:coreProperties>
</file>